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E2F5-FC41-42D7-B15C-5915E506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28BE-3415-4AC5-ADE8-049E6FFF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D22E-4987-48F2-A7AB-C19DFF34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159-8A42-42D6-BE47-6A89A5B2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8856-85FA-478D-AA1E-2A3B018F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DF4-EE95-4F2B-8402-ECC4732B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3FA-28C2-4020-AA41-FC28CC50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9367-A384-406D-9004-B9231B22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FBD3-DDB2-4CCB-B318-C9AA96A8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1DDA-A4F0-4EC8-B4E9-4123B652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8FF5-D34B-446D-8A29-F8744DDF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CE78-6986-4A5D-B9B3-ED2A8614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2DE1-8E3B-428E-A0DD-F3BC71EF25F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68 Aké príjemné a krás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ožia láska nech nás spáj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srdciach Kristus kraľ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veky kiež z blaha raj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ý z nás sa raduj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ké príjemné a krás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cirkvi svorne naží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ké vznešené a vzác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bies pokoj rozsievať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iežby sme sa v každej dob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ožím Duchom dali vi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od pravdy sveta zlob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edali sa nikdy zvie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ožia láska nech nás spáj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srdciach Kristus kraľ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veky kiež z blaha raj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ý z nás sa rad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remä jedni druhých nes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tca máme jedného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 nás Kristus trpel vedz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olá k sebe každ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 to stále pamäta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 ním verne kráča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hnevy, sváry zanecha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avzájom sa znášajme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ožia láska nech nás spáj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srdciach Kristus kraľ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veky kiež z blaha raj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ý z nás sa rad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eriaci kde svorne žij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ehná dielo nebies Pá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kde láskou srdcia bij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 si rád svoj volí st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ké príjemné a krás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cirkvi svorne naží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ké vznešené a vzác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ebies pokoj rozsiev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!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7:56:09Z</dcterms:modified>
  <cp:revision>24</cp:revision>
  <dc:subject/>
  <dc:title>Je veľký náš Pán, on slávy je Kráľ Nech do všetkých strán  spev vrúcnych znie chvál.</dc:title>
</cp:coreProperties>
</file>